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41C0-5549-47AA-AA81-3719FEBB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1AE-4306-4714-B6F0-812EEA59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1DF-3758-497B-AFEB-1E297660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722B-A8A5-44D9-83FF-6EF8F3AD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B08-28DE-4E6E-884A-14B37A28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42A-F4DC-4E06-9C2F-D7921CAB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E09-DD35-4CF9-A49F-8CB400C9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4ED-2C28-4BA3-A078-04ADB60C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980-3BEA-47B2-8F1A-DA68E6FB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DB0-1BFB-436B-A435-689F0A6E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16F-6766-44A4-BE67-E9D96AF2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BB34-0D36-4A95-B66F-48BE67DA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D9BF-4B34-4F91-A7FC-AEA7C81653C8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4560" y="685800"/>
            <a:ext cx="6933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77353" dir="4837521" blurRad="0" rotWithShape="0">
                    <a:srgbClr val="4d4d4d"/>
                  </a:outerShdw>
                </a:effectLst>
                <a:latin typeface="Arial Black"/>
              </a:rPr>
              <a:t>TOPLANTI   YÖNETİMİ   TEKNİKLERİ</a:t>
            </a:r>
            <a:endParaRPr b="0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77353" dir="483752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57680" y="6039000"/>
            <a:ext cx="3466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SUNAN: Süleyman KAYA</a:t>
            </a:r>
            <a:endParaRPr b="0" lang="en-US" sz="2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43" name="BD19923_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4114800" cy="258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052800" y="175248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77353" dir="4837521" blurRad="0" rotWithShape="0">
                    <a:srgbClr val="4d4d4d"/>
                  </a:outerShdw>
                </a:effectLst>
                <a:latin typeface="Arial Black"/>
              </a:rPr>
              <a:t>SEMİNERİ</a:t>
            </a:r>
            <a:endParaRPr b="0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77353" dir="483752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380880"/>
            <a:ext cx="44197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KİPLİNG'İN 6 DÜRÜST HİZMETKARI :</a:t>
            </a:r>
            <a:endParaRPr b="0" lang="en-US" sz="16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745920" y="1798560"/>
            <a:ext cx="256104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- 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- Ned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3- Ne Zam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4- Nası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- Nere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6- Ki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2120" y="457200"/>
            <a:ext cx="3962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LANTI YAPILANDIRMASI : </a:t>
            </a:r>
            <a:endParaRPr b="0" lang="en-US" sz="12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590400" y="1295280"/>
            <a:ext cx="58867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antıklı Karar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Üretken Karar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lanl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elişimi İzle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roblem  Çöz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ilgi Aktar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epkileri Kontr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98400" y="380880"/>
            <a:ext cx="448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SONUÇLARA ULAŞMAK İÇİN :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570240" y="1736640"/>
            <a:ext cx="669888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- Özetlemenin Öne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- Görülebilirliğ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3- Tutanak Yapma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4- Sorumluluk Alabilmek, Dağıt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- Toplantıdan Sonra Taki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19925_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32767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1080" y="4800600"/>
            <a:ext cx="121896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5105520"/>
            <a:ext cx="5972040" cy="536400"/>
          </a:xfrm>
          <a:custGeom>
            <a:avLst/>
            <a:gdLst/>
            <a:ahLst/>
            <a:rect l="l" t="t" r="r" b="b"/>
            <a:pathLst>
              <a:path w="3762" h="338">
                <a:moveTo>
                  <a:pt x="0" y="5"/>
                </a:moveTo>
                <a:cubicBezTo>
                  <a:pt x="287" y="10"/>
                  <a:pt x="525" y="0"/>
                  <a:pt x="792" y="59"/>
                </a:cubicBezTo>
                <a:cubicBezTo>
                  <a:pt x="887" y="80"/>
                  <a:pt x="948" y="142"/>
                  <a:pt x="1044" y="158"/>
                </a:cubicBezTo>
                <a:cubicBezTo>
                  <a:pt x="1113" y="204"/>
                  <a:pt x="1187" y="163"/>
                  <a:pt x="1251" y="131"/>
                </a:cubicBezTo>
                <a:cubicBezTo>
                  <a:pt x="1290" y="112"/>
                  <a:pt x="1344" y="106"/>
                  <a:pt x="1386" y="95"/>
                </a:cubicBezTo>
                <a:cubicBezTo>
                  <a:pt x="1444" y="114"/>
                  <a:pt x="1383" y="96"/>
                  <a:pt x="1485" y="113"/>
                </a:cubicBezTo>
                <a:cubicBezTo>
                  <a:pt x="1539" y="122"/>
                  <a:pt x="1593" y="138"/>
                  <a:pt x="1647" y="149"/>
                </a:cubicBezTo>
                <a:cubicBezTo>
                  <a:pt x="1659" y="151"/>
                  <a:pt x="1671" y="154"/>
                  <a:pt x="1683" y="158"/>
                </a:cubicBezTo>
                <a:cubicBezTo>
                  <a:pt x="1701" y="163"/>
                  <a:pt x="1737" y="176"/>
                  <a:pt x="1737" y="176"/>
                </a:cubicBezTo>
                <a:cubicBezTo>
                  <a:pt x="1785" y="173"/>
                  <a:pt x="1833" y="173"/>
                  <a:pt x="1881" y="167"/>
                </a:cubicBezTo>
                <a:cubicBezTo>
                  <a:pt x="1917" y="162"/>
                  <a:pt x="1953" y="140"/>
                  <a:pt x="1989" y="131"/>
                </a:cubicBezTo>
                <a:cubicBezTo>
                  <a:pt x="2037" y="119"/>
                  <a:pt x="2073" y="110"/>
                  <a:pt x="2124" y="104"/>
                </a:cubicBezTo>
                <a:cubicBezTo>
                  <a:pt x="2202" y="107"/>
                  <a:pt x="2280" y="108"/>
                  <a:pt x="2358" y="113"/>
                </a:cubicBezTo>
                <a:cubicBezTo>
                  <a:pt x="2391" y="115"/>
                  <a:pt x="2448" y="158"/>
                  <a:pt x="2448" y="158"/>
                </a:cubicBezTo>
                <a:cubicBezTo>
                  <a:pt x="2484" y="212"/>
                  <a:pt x="2545" y="238"/>
                  <a:pt x="2601" y="266"/>
                </a:cubicBezTo>
                <a:cubicBezTo>
                  <a:pt x="2611" y="271"/>
                  <a:pt x="2618" y="281"/>
                  <a:pt x="2628" y="284"/>
                </a:cubicBezTo>
                <a:cubicBezTo>
                  <a:pt x="2654" y="291"/>
                  <a:pt x="2682" y="290"/>
                  <a:pt x="2709" y="293"/>
                </a:cubicBezTo>
                <a:cubicBezTo>
                  <a:pt x="2906" y="287"/>
                  <a:pt x="3090" y="267"/>
                  <a:pt x="3285" y="257"/>
                </a:cubicBezTo>
                <a:cubicBezTo>
                  <a:pt x="3374" y="227"/>
                  <a:pt x="3238" y="277"/>
                  <a:pt x="3339" y="221"/>
                </a:cubicBezTo>
                <a:cubicBezTo>
                  <a:pt x="3356" y="212"/>
                  <a:pt x="3375" y="209"/>
                  <a:pt x="3393" y="203"/>
                </a:cubicBezTo>
                <a:cubicBezTo>
                  <a:pt x="3402" y="200"/>
                  <a:pt x="3420" y="194"/>
                  <a:pt x="3420" y="194"/>
                </a:cubicBezTo>
                <a:cubicBezTo>
                  <a:pt x="3447" y="197"/>
                  <a:pt x="3474" y="199"/>
                  <a:pt x="3501" y="203"/>
                </a:cubicBezTo>
                <a:cubicBezTo>
                  <a:pt x="3533" y="208"/>
                  <a:pt x="3556" y="231"/>
                  <a:pt x="3582" y="248"/>
                </a:cubicBezTo>
                <a:cubicBezTo>
                  <a:pt x="3598" y="259"/>
                  <a:pt x="3618" y="260"/>
                  <a:pt x="3636" y="266"/>
                </a:cubicBezTo>
                <a:cubicBezTo>
                  <a:pt x="3646" y="269"/>
                  <a:pt x="3653" y="279"/>
                  <a:pt x="3663" y="284"/>
                </a:cubicBezTo>
                <a:cubicBezTo>
                  <a:pt x="3697" y="301"/>
                  <a:pt x="3735" y="311"/>
                  <a:pt x="3762" y="33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91360" y="5181480"/>
            <a:ext cx="99072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31480" y="5334120"/>
            <a:ext cx="46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67960" y="526104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ası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7800" y="556560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47960" y="59468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üre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3680" y="6327720"/>
            <a:ext cx="74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Usü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76720" y="5870520"/>
            <a:ext cx="22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Çözü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İçerik (Muhte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76520" y="380880"/>
            <a:ext cx="5638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İYİ BİR TOPLANTIDA ARANAN BEŞ ŞART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2" name=""/>
          <p:cNvSpPr/>
          <p:nvPr/>
        </p:nvSpPr>
        <p:spPr>
          <a:xfrm>
            <a:off x="219600" y="1106640"/>
            <a:ext cx="654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-Ortak Bir Muhteva Üzerine Olmalıdı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440" y="1571760"/>
            <a:ext cx="4887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mic Sans MS"/>
              </a:rPr>
              <a:t>2-Ortak Bir Usül İzlenmelid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313200" y="2028960"/>
            <a:ext cx="10154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3-Konuşma Akışının Samimi Ve Dengeli Bir Şekil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Olması İle Davranıştan Sorumlu Bir Kişi Bulunmalıdı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91600" y="2921040"/>
            <a:ext cx="8492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4-Katılanların Herhangi  Kişisel Hükümlerde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Korumaktan Sorumlu Biri Bulunmalıdı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9480" y="3762360"/>
            <a:ext cx="8506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5-Toplantının Sonuna Kadar Katılanların Rol Ve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orumlulukları Ayrı Ayrı Belirlenmiş Olmalıdı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30492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LANTI PROBLEMLERİ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48752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3560" y="1335240"/>
            <a:ext cx="354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Çok Başlı Olma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00" y="1903320"/>
            <a:ext cx="847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üreç Ve İçeriğin Birbirlerine Karışmamas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7760" y="2452680"/>
            <a:ext cx="370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Kişisel  Hücum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5480" y="2986200"/>
            <a:ext cx="336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rafik Proble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3240" y="3537000"/>
            <a:ext cx="622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ol Ve Sorumlulukların Olmas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2560" y="4070520"/>
            <a:ext cx="8972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rup Liderinin Grubu Dilediği Gibi Yönetmes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9160" y="4605480"/>
            <a:ext cx="34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azla Bilgi Yük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7720" y="5165640"/>
            <a:ext cx="570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Lüzumsuz Tekrar Ve Patinaj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4400" y="1403280"/>
            <a:ext cx="836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Karar Vermede Kazanç Kayıp Yaklaşımlar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7280" y="1949400"/>
            <a:ext cx="477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edeflerin Açık Olmas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9400" y="2498760"/>
            <a:ext cx="7023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Yetki Ve Otoritenin Açık Olmamas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1760" y="3060720"/>
            <a:ext cx="484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roblemlerden  Kaçm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0520" y="3608280"/>
            <a:ext cx="321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Negatif Tut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1800" y="4141800"/>
            <a:ext cx="505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aberleşme Problemler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5480" y="4694400"/>
            <a:ext cx="38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Yerin Elverişsizliğ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6320" y="5241960"/>
            <a:ext cx="379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Kişisel Çatışma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304920"/>
            <a:ext cx="32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LANTI PROBLEMLERİ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380880"/>
            <a:ext cx="46483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LANTIDAKİ PROBLEM KİŞİLER :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604800" y="1633680"/>
            <a:ext cx="35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rken Ayrılan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0040" y="2193840"/>
            <a:ext cx="250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ozuk Pla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0" y="2727360"/>
            <a:ext cx="319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Şüpheci Kişi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2800" y="3276720"/>
            <a:ext cx="350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Kafa Sallayan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9960" y="3809880"/>
            <a:ext cx="616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aşka Şeylerle Meşgul Olan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6320" y="4343400"/>
            <a:ext cx="280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ısıldayıcı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200" y="4894200"/>
            <a:ext cx="361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ğzı Kalabalık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783288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90040" y="1371600"/>
            <a:ext cx="274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aldırgan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7120" y="1906560"/>
            <a:ext cx="266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Yorumc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9120" y="2454120"/>
            <a:ext cx="3216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edikoduc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1640" y="3002040"/>
            <a:ext cx="197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ilgiç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7200" y="3535200"/>
            <a:ext cx="3152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üdahaleci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3640" y="4062240"/>
            <a:ext cx="439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azla Meşgul Olan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0760" y="4586400"/>
            <a:ext cx="572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aşkasının Sözünü Kesen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5640" y="5153040"/>
            <a:ext cx="427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Öğretmen Gözdeler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783288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380880"/>
            <a:ext cx="46483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LANTIDAKİ PROBLEM KİŞİLER :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85800" y="457200"/>
            <a:ext cx="46483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UHTELİF ÜYE TİPLERİ :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783288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~AUT0001" descr=""/>
          <p:cNvPicPr/>
          <p:nvPr/>
        </p:nvPicPr>
        <p:blipFill>
          <a:blip r:embed="rId2"/>
          <a:stretch/>
        </p:blipFill>
        <p:spPr>
          <a:xfrm>
            <a:off x="3276720" y="1523880"/>
            <a:ext cx="5867280" cy="36864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352680" y="3581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209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77120" y="24382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91520" y="28638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23623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3549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6680" y="17384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  Mücadeleci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6680" y="39909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7  İlgisiz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1080" y="4738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9  Sürekli soran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6680" y="2090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  Pozitif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6680" y="32288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5  Utangaç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1080" y="437184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8  Eleştirici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6680" y="3610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  Olumsuz Uzlaşmaz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24670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mic Sans MS"/>
              </a:rPr>
              <a:t>3  Herşeyi bilirim diyen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284796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  Çok konuşan T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747720" y="380880"/>
            <a:ext cx="4205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İYİ KAYIT TUTMAK İÇİN :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626400" y="1093680"/>
            <a:ext cx="516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Kilit Kelimelere Dikkat Ed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9720" y="1569960"/>
            <a:ext cx="85042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a Fikirleri Söyleyenlerin Özünü  Yakalamaya Çalışı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3080" y="2382840"/>
            <a:ext cx="611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öylenen Her Kelimeyi  Yazmayı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0960" y="2916360"/>
            <a:ext cx="416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Yalnız Açık Seçik Olu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1880" y="3449520"/>
            <a:ext cx="38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0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Kelimeleri  Kısaltı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6440" y="3968640"/>
            <a:ext cx="6321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Ana Fikirleri, Temel İfadeleri Vey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Kararları Daire İçine Alı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4400" y="4849920"/>
            <a:ext cx="441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Kağıtları  Numaralayı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7080" y="5369040"/>
            <a:ext cx="82893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Değişik Renkte Kalem, İşretler, Rakam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Yıldız, Ok Gibi Yardımcı Şekiller Kullanı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107640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17220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447920" y="304920"/>
            <a:ext cx="5410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64600" dir="4725161" blurRad="0" rotWithShape="0">
                    <a:srgbClr val="4d4d4d"/>
                  </a:outerShdw>
                </a:effectLst>
                <a:latin typeface="Arial Black"/>
              </a:rPr>
              <a:t>LÜZUMSUZ TOPLANTI ÇEŞİTLERİ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64600" dir="472516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432080" y="1317600"/>
            <a:ext cx="85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12960" y="1469880"/>
            <a:ext cx="10065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2266920"/>
            <a:ext cx="16002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Wingdings 2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02920" y="1131840"/>
            <a:ext cx="421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Kahvaltılı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25600" y="1657440"/>
            <a:ext cx="396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akıntılı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60160" y="2178000"/>
            <a:ext cx="384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ıkıntılı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0640" y="2698920"/>
            <a:ext cx="274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İç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81400" y="3206880"/>
            <a:ext cx="298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ış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600" y="3733920"/>
            <a:ext cx="366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İç Dışlı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259160"/>
            <a:ext cx="49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lağandışı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8240" y="4797360"/>
            <a:ext cx="342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ısıltı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70240" y="5318280"/>
            <a:ext cx="3793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ıcırtılı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3640" y="5851440"/>
            <a:ext cx="3657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Zırıltılı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4771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D19934_" descr=""/>
          <p:cNvPicPr/>
          <p:nvPr/>
        </p:nvPicPr>
        <p:blipFill>
          <a:blip r:embed="rId2"/>
          <a:stretch/>
        </p:blipFill>
        <p:spPr>
          <a:xfrm>
            <a:off x="6039000" y="2165400"/>
            <a:ext cx="24955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304920"/>
            <a:ext cx="6705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HA İYİ BİR TOPLANTI İÇİN YAPILMASI GEREKENLER :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745920" y="1447920"/>
            <a:ext cx="399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Toplantıdan Önce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2362320"/>
            <a:ext cx="84582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-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mic Sans MS"/>
              </a:rPr>
              <a:t>Planlama: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Kim, Ne,zaman, Nerede, Niçin, Kaç Kiş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- Günd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3- Erken Gelme, Yerin Hazırlanmas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617220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62480" y="1219320"/>
            <a:ext cx="430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Toplantı  Başlarken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9360" y="1752480"/>
            <a:ext cx="935676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4- Zamanında Başl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5- Katılanların Takdimi, Ne Beklediklerinin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çıklanması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6- Rollerin Açık Seçik Tayin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7- Gündemin Gözden Geçirilmesi, Düzenlem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4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ve Değiştirmel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8- Zaman Sınırlamasının Konulmas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304920"/>
            <a:ext cx="6705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HA İYİ BİR TOPLANTI İÇİN YAPILMASI GEREKENLER :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617220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9480" y="1962000"/>
            <a:ext cx="7772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9-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eçmiş Toplantıyı Kısaca Tekra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özden Geçir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-516600" y="3562200"/>
            <a:ext cx="9210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10-</a:t>
            </a: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Belli Bir Zamanda Aynı Usülle Tek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Bir Problem Üzerinde Duru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3720" y="4476600"/>
            <a:ext cx="7025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1- Faaliyet Maddelerini Tespit Edi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6760" y="5013360"/>
            <a:ext cx="671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2- Grup Hafızasını Gözden Geçir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8720" y="1276200"/>
            <a:ext cx="381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Toplantı Başında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3080" y="3013200"/>
            <a:ext cx="393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Toplantı Boyunca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4920"/>
            <a:ext cx="6705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HA İYİ BİR TOPLANTI İÇİN YAPILMASI GEREKENLER :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617220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-428040" y="1676520"/>
            <a:ext cx="983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3-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elecek Toplantının Yer Ve Zamanını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Kararlaştırı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2240" y="2727360"/>
            <a:ext cx="645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4- Geçici Bir Gündem Hazırlayı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344520" y="3352680"/>
            <a:ext cx="9428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5-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oplantıyı Müspet Bir Şekilde Son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rdiri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343440" y="4479840"/>
            <a:ext cx="9139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6-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oplantı Yerini Temizleyerek Esk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izenine Soku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4920"/>
            <a:ext cx="6705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HA İYİ BİR TOPLANTI İÇİN YAPILMASI GEREKENLER :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17220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51160" y="2457360"/>
            <a:ext cx="671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7- Toplantı Tutanağını Hazırlayı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498960" y="3143160"/>
            <a:ext cx="10551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8-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aaliyet Maddelerini Takip Ederek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Gelecek Toplantının Planını Hazırlamay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aşlayı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240" y="1508040"/>
            <a:ext cx="41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Toplantıdan Sonra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304920"/>
            <a:ext cx="6705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AHA İYİ BİR TOPLANTI İÇİN YAPILMASI GEREKENLER :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04960" y="1523880"/>
            <a:ext cx="5715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Katılımınız İçin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119320" y="373392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EŞEKKÜRLER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49640" y="304920"/>
            <a:ext cx="278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ROGRAMIMIZ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2560" y="1143000"/>
            <a:ext cx="666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AMACA YÖNELİK, ETKİN, VERİML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TOPLANTI YAP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5800" y="2212920"/>
            <a:ext cx="198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azırlı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8320" y="2746440"/>
            <a:ext cx="590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oplantının Yapılandırılmas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3440" y="3279600"/>
            <a:ext cx="78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tr-TR" sz="3000" spc="-1" strike="noStrike">
                <a:solidFill>
                  <a:srgbClr val="000000"/>
                </a:solidFill>
                <a:latin typeface="Comic Sans MS"/>
              </a:rPr>
              <a:t>Toplantının Yönetimi İnteraktif Met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8680" y="3813120"/>
            <a:ext cx="830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oplantı Sonrası Durum Değerlendirmes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6040" y="4575240"/>
            <a:ext cx="743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66"/>
                </a:solidFill>
                <a:uFillTx/>
                <a:latin typeface="Comic Sans MS"/>
              </a:rPr>
              <a:t>Gayemiz</a:t>
            </a: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 :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maca Yönelik, Etkin, Verimli Toplant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ekniklerini Kavrama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98560" y="199548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NE ZAMAN TOPLANTI YAPILMAL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525840"/>
            <a:ext cx="8229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ilhassa Bir İdareci Veya Başkan İçin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Şu Hallerde Bir Toplantı Yapmak İyi Olur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05320" y="399960"/>
            <a:ext cx="2133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LANLAMA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00080" y="118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1720" y="1066680"/>
            <a:ext cx="72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 Gruptan Bilgi Veya Tavsiyeler Beklendiğ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160" y="1523880"/>
            <a:ext cx="85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ubun Karar Verme Veya Problem Çözmey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Katılması İstendiğ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720" y="2374920"/>
            <a:ext cx="84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3. Bir Meselenin Açıklığa Kavuşturulması gerektiğ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86056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. Bir Bütün Olarak Grubunuzla Paylaşmak İstediğiniz Meseleniz Olduğu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9080" y="3683160"/>
            <a:ext cx="72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 Grup Bizzat Toplantı Yapılmasını İstediği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00" y="4143240"/>
            <a:ext cx="83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. Değişik Gruplardan Kimseleri İlgilendiren B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sele Olduğu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60" y="4971960"/>
            <a:ext cx="84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. Ortada Çok Açık Olmayan Veya Kimle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İlgilendirdiği Tam Belli Olmayan Bir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lduğu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05320" y="399960"/>
            <a:ext cx="21333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LANLAMA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09680" y="228600"/>
            <a:ext cx="4724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OPLANTI YAPMAK İÇİN NEDENLER</a:t>
            </a:r>
            <a:endParaRPr b="0" lang="en-US" sz="20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646560" y="1523880"/>
            <a:ext cx="290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Karar Alma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8600" y="2193840"/>
            <a:ext cx="762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lan Yapmak Veya Gelişimi Gözleme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7240" y="2955960"/>
            <a:ext cx="382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Problem  Çözme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3680" y="3740040"/>
            <a:ext cx="809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ilgi İletmek Ve Netleşmesini Sağlama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8120" y="4502160"/>
            <a:ext cx="714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eğişiklik Öncesi Reaksiyon Alma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9960" y="5264280"/>
            <a:ext cx="325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otive  Etme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31080" y="4013280"/>
            <a:ext cx="39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oplantının Açılış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5680" y="4543560"/>
            <a:ext cx="56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Maddeleri Gözden Geçir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9880" y="5067360"/>
            <a:ext cx="414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olleri Netleştir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7200" y="5597640"/>
            <a:ext cx="460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aha Kuralları Koy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457200"/>
            <a:ext cx="1447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AZIRLIK :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585000" y="1219320"/>
            <a:ext cx="320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Etkili Günd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720" y="1749600"/>
            <a:ext cx="249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Yer Seçi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2400" y="2260440"/>
            <a:ext cx="367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raç Ve Gereç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080" y="2790720"/>
            <a:ext cx="456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Katılımcılara Bildiri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581280"/>
            <a:ext cx="2362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YAPILANDIRMA :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BD19924_" descr=""/>
          <p:cNvPicPr/>
          <p:nvPr/>
        </p:nvPicPr>
        <p:blipFill>
          <a:blip r:embed="rId2"/>
          <a:stretch/>
        </p:blipFill>
        <p:spPr>
          <a:xfrm>
            <a:off x="5541840" y="2057400"/>
            <a:ext cx="33735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52280" y="152280"/>
            <a:ext cx="8763120" cy="640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76212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7621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4600" y="609480"/>
            <a:ext cx="3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D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7640" y="685800"/>
            <a:ext cx="49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ARİ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1066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1600" y="8380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PLANTIN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ÜNVA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7640" y="1157400"/>
            <a:ext cx="75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İTİŞ SAATİ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12952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7280" y="928800"/>
            <a:ext cx="100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ŞLAMA SAATİ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0666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44792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263600"/>
            <a:ext cx="8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PLANTIY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ERTİPLEY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8000" y="137160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ERİ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1523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8288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133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4600" y="15228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ÜN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1981080"/>
            <a:ext cx="116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PLANTININ TÜR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58040" y="19051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AKDİMCİ DESTEKLEYİCİ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LZEME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2133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2666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406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EKLEN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NETİCE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39400" y="2449440"/>
            <a:ext cx="97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ETİRECEĞİNİZ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ALZEME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26668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304812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23623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429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4280" y="3657600"/>
            <a:ext cx="59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ŞK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80988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365760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OPLAN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TODLA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8620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120" y="4433760"/>
            <a:ext cx="49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AC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45720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3920" y="449568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RAR VEREC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45720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24280" y="4038480"/>
            <a:ext cx="9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RAR VER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METO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86400" y="4267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800600"/>
            <a:ext cx="93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AYIT TUTU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49528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280" y="5195880"/>
            <a:ext cx="913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GRUP ÜYELERİ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5334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9040" y="518148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HUSİSİ NOTL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6386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3341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60199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57150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5715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601992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62120" y="380880"/>
            <a:ext cx="51051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İR TOPLANTI NE ZAMAN BAŞARILIDIR ?</a:t>
            </a:r>
            <a:endParaRPr b="0" lang="en-US" sz="16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64840" y="1157400"/>
            <a:ext cx="7441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Bir Toplantının Başarısını Ölçmek İçi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Comic Sans MS"/>
              </a:rPr>
              <a:t>İki Yol Vardır 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8120" y="2198520"/>
            <a:ext cx="787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- Toplantı Sonunda Nelerin Elde Edildiğ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6160" y="2727360"/>
            <a:ext cx="8303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- Toplantı Nasıl Nasıl Bir Gelişme Gösterd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04880" y="3552840"/>
            <a:ext cx="53150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İNTERAKSİYON ( ETKİLEŞİM) YÖNTEMİ :</a:t>
            </a:r>
            <a:endParaRPr b="0" lang="en-US" sz="1400" spc="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626760" y="4022640"/>
            <a:ext cx="160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- Arac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2920" y="4543560"/>
            <a:ext cx="303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- Kayıt Tutuc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720" y="507672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3- Grup Üyes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8320" y="5587920"/>
            <a:ext cx="344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4- İdareci Başk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9907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248520"/>
            <a:ext cx="792468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8:51:23Z</dcterms:created>
  <dc:creator>İSLAM_YAKAN</dc:creator>
  <dc:description/>
  <dc:language>en-US</dc:language>
  <cp:lastModifiedBy>Semra Taştepe</cp:lastModifiedBy>
  <cp:lastPrinted>2002-05-24T11:49:19Z</cp:lastPrinted>
  <dcterms:modified xsi:type="dcterms:W3CDTF">2002-06-26T18:28:05Z</dcterms:modified>
  <cp:revision>15</cp:revision>
  <dc:subject/>
  <dc:title>Slayt Başlığı Yok</dc:title>
</cp:coreProperties>
</file>